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Chapter" id="0">
      <p:sldLst>
        <p:sld r:id="rId4"/>
        <p:sld r:id="rId9"/>
        <p:sld r:id="rId11"/>
        <p:sld r:id="rId10"/>
        <p:sld r:id="rId16"/>
        <p:sld r:id="rId17"/>
        <p:sld r:id="rId20"/>
        <p:sld r:id="rId3"/>
      </p:sldLst>
    </p:custShow>
    <p:custShow name="ELI Sect 1" id="1">
      <p:sldLst>
        <p:sld r:id="rId3"/>
        <p:sld r:id="rId20"/>
      </p:sldLst>
    </p:custShow>
    <p:custShow name="ELI Sect 2" id="2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</p:sldLst>
    </p:custShow>
    <p:custShow name="ELI STP" id="3">
      <p:sldLst>
        <p:sld r:id="rId5"/>
        <p:sld r:id="rId7"/>
      </p:sldLst>
    </p:custShow>
    <p:custShow name="Bellringers" id="4">
      <p:sldLst>
        <p:sld r:id="rId4"/>
      </p:sldLst>
    </p:custShow>
    <p:custShow name="Chapter menu" id="5">
      <p:sldLst>
        <p:sld r:id="rId3"/>
        <p:sld r:id="rId20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urces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renewable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598400"/>
            <a:ext cx="82310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renewabl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C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l Tr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-Fuel Su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ar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clear Fission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 of a Nuclear Re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ssil fuels, like minerals, are one of the main sources of energy, but are also nonrenewable resour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Crude oi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or unrefined petroleum, is also used in the production of plastics, synthetic fabrics and rubber, medicines, waxes, chemical fertilizers, detergents, shampoos, and many other produ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al is the most abundant fossil fuel in the world.  Two-thirds of the known deposits of coal occur in the United States, Russia, and Chi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il shale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s a relatively abundant material that contains petroleum.  But the cost of mining oil from shale is far greater than the present cost of recovering oil from other sedimentary roc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-Fuel Suppli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b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uclear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discovered that atoms had smaller fundamental pa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parts could be split by creating nuclear reactions with nuclear technolog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4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clear F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clear fi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nucleus splits, it releases additional neutrons as well as energ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ly released neutrons begin a chain reaction by striking nearby nuclei, which causes those nuclei to split and release more neutrons and mor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left uncontrolled, a fission reaction will escalate quickly and may result in an explosion. Controlled reactions produce heat that can be used to generate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uclear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uclear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4103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ow Fission Generates 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uclear rea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specialized equipment in which controlled nuclear fission is carried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ranium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5, or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, is the only naturally occurring element used for nuclear fi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ore is mined and processed into fuel pellets with high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uranium-enriched pellets are placed into rods to mak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uel r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Bundles of these fuel rods are then bombarded by neutrons to induce a nuclear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uclear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ow Fission Generates Electricity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ulting chain reaction from nuclear fission causes the fuel rods to become very h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is pumped around the fuel rods to absorb and remove heat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ter is then pumped into a second circuit, where it becomes steam and turns the turbines that provide power for electric gener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hird water circuit carries away the excess heat and releases it into the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 Nuclear Fission Re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685800" y="2181240"/>
            <a:ext cx="7373880" cy="3610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how a nuclear fission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vantages and Disadvantages of Nuclear F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ar power plants burn no fossil fuels and produce no air pol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they produce harmful radioactive materials that have very long half-lives, wastes must be stored for thousands of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waste products give off harmful doses of radiation that can destroy plant and animal cells and can cause harmful changes in the genetic material of living cells.ystem is a system in which both energy and matter are exchanged with the surround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uclear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uclear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clear 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clear fu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f the energy that reaches Earth from the sun is produced by nuclear f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sion reactions only occur at temperatures of more than 15,000,000°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nly byproduct of fusion are helium nuclei, which are harmless to living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arts of a Nuclear Reacto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4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coal is a fossil fu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petroleum and natural gas form and how they are removed from Ea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es of nuclear fission and nuclear f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nuclear fission generates 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onrenewable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47920"/>
            <a:ext cx="84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nrenewab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ssil Fu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ssil fu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of the energy humans use every day comes from the burning of the hydrocarbons that make up fossil fu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ydrocarbons are burned, the breaking of chemical bonds releases energy as heat and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rmation of C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l is the most commonly burned fossil fuel, formed during a complex process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arboniz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ization occurs when partially decomposed plant materials is buried in swamp mud and becomes p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bacteria consume some of the peat and release the gases methane,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carbon dioxide,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contents of peat gradually change until mainly carbon rem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t remains if conditions are not optimal for carbonization.  Peat may be used as an energy sou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 Fue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Coal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1838160" y="2209680"/>
            <a:ext cx="5467680" cy="3695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different types of  co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 Fue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ypes of Coal Depo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rtial decomposition of plant remains forms a brownish-black material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t is buried by other sediment. As heat and pressure increase peat become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ligni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nite is also called brown co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temperature and pressure compacts the lignite and form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bituminou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al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ituminous coal is made of 80% carb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thrac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hardest form of coal, is produced when bituminous coal is under high temperatures and pressures. Anthracite coal is made of 90% carb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 Fue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rmation of Petroleum and Natural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troleum and natural gas are mixtures of hydrocarbon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se fossil fuels formed when heat and pressure caused chemical changes to the remains of microorganisms and pla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troleum and Natural Gas Depo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troleum and natural gas are very important sources of energy for transportation, farming, and many other industr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are mined from permeable sedimentary roc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troleum accumulates beneath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ap roc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nd fill the space to form an oil reservoir. Natural gas rises above petroleum, because it is less dense than both oil and wa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il Trap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how oil becomes trapped under cap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1"/>
          <a:stretch/>
        </p:blipFill>
        <p:spPr>
          <a:xfrm>
            <a:off x="838080" y="2600280"/>
            <a:ext cx="3429000" cy="2781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4572000" y="2619360"/>
            <a:ext cx="36385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 Fuel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il Tr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 pressure of the overlying rock is removed, fluids rise up and out through the w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3-12-03T17:45:40Z</dcterms:modified>
  <cp:revision>712</cp:revision>
  <dc:subject/>
  <dc:title>No Slide Title</dc:title>
</cp:coreProperties>
</file>